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B751-6AB2-4AEC-BDB1-3904A62483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115-0328-4899-A55B-8D21CACD9A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891-4D9D-4DA7-ABEF-6F03B9B51F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3D7-0A87-4B2C-BFE7-71BDAC1E24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822-7339-43B3-933A-436ACABD8B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92C-8330-45C7-B814-979E9587B9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F48-8831-4A39-9E13-FCBDCB7F96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5F5-ED59-4C42-ABC4-04894A07D6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B30B-3724-4EAC-A5C6-825AB80980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930-30EF-427D-A35C-FF76024CB0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BF7F-09AF-46A2-8A35-534E808888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79C1-434D-4EAF-920B-09F4B400C6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6D7-A88E-4777-A747-BF8F06B9CE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382-4FC3-434B-A2A5-BC4B91068F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5DC2-CADC-49B9-B915-F56C2D3152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92CB-1A1D-48DE-A1DE-12F71D8F30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6A86-588A-4A87-9BE8-33113F65FF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B4D-5A54-4451-93FB-D7EF7684E2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D52-C728-4028-A6D3-3F4675F08B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E9D-5073-4774-89DF-56740BD580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147-A52F-40CB-8F1D-06A4CB9C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593-6428-42A1-B1B3-7F21A3C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8E-6E7A-4DEE-B6B0-CCE669ED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65C-18DF-4A9D-B89D-700E2D60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9BD-AAED-4F45-8F4B-1FC0FDB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3E7-5337-4CD5-AEEA-0B3EEA48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7F6-94E1-434A-A95B-FF7F63F3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4E3-68C4-48C0-871F-A61D4C08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0AE-23BF-4291-9E87-E775CCDE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A5D-9F57-428B-A1BD-E1F840C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EFE-36D7-424F-A2AE-08083E9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64A-59CB-4DA9-8D9C-A5FC872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8D4-B356-43A9-A964-BD630562C1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Comic Sans MS"/>
              </a:rPr>
              <a:t>SYMBOLY ZÁCHR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8320" y="50292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můcka pro II. stupeň ZŠ a SŠ – křesťanské symboly v antických katakom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20px-Ichthys"/>
          <p:cNvPicPr/>
          <p:nvPr/>
        </p:nvPicPr>
        <p:blipFill>
          <a:blip r:embed="rId1"/>
          <a:stretch/>
        </p:blipFill>
        <p:spPr>
          <a:xfrm>
            <a:off x="2743200" y="2590920"/>
            <a:ext cx="39243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ABRAHÁMOVA OB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 obětování milovaného syna Izáka Abrahámem je dalším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řady výjevů zázračných zásahů ve prospěch života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dalších zmiňme např. tři mládence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eci ohnivé, Daniela v jámě se lvy, Jonáše zachráněného z břicha velryby, Mojžíše a vytrysknutí zázračného pramene na poušti, uzdravení malomocného, vzkříšení Lazara apod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obrazení Abrahámovy oběti může však být narážko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 n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ého Izáka, tj. Kris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skutečně obětovaného milovaného syna, dokonalé oběti jednou provždy, a tudíž 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sté cesty zpět k Bo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056, Catacomba di Priscilla, cubicolo della Velata, luneta s orantkou, 3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91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57913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žena (orantka)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e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ORANTKA (modlící se že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člověka s rozepjatýma rukam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dlaněmi vzhůru k nebi je známým vyobrazením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litebního postoje křesťan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V raně křesťanských pohřebištích (katakombách) obvykle zname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íru ve spasenou duši křesťana směřující k B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isciliných katakombách je uprostřed zobrazena duše zemřelé ženy - vdovy obklopená dvěma dalšími výjevy z jejího života: vlevo uzavřením manželství před biskupe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růně a vpravo mateřstv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38, Catacomba di S"/>
          <p:cNvPicPr/>
          <p:nvPr/>
        </p:nvPicPr>
        <p:blipFill>
          <a:blip r:embed="rId1"/>
          <a:stretch/>
        </p:blipFill>
        <p:spPr>
          <a:xfrm>
            <a:off x="0" y="0"/>
            <a:ext cx="9223200" cy="6918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400" y="5181120"/>
            <a:ext cx="5562720" cy="1676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Ryba a koš s pěti chleby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yobrazení z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přelom 2. a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EUCHARISTICKÁ RY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důležitým prvkům víry, ke kterým se upínala naděje prvních křesťanů, náležela nepochybně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á v různých symbolických vyjádřeních patří k velmi častým motivů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atakombálním malířství a sochařství: předně jako znázorně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krmu pro věčný živ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l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amotného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a a koš chlebů (nebo 2 ryby a 5 chlebů apod.) jsou narážkou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ckou přítomnost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prostřed svého, mnohdy trpícího li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36, Catacomba di S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Kristus Dobrý pastýř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detail ze stropu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DOBRÝ PASTÝ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stýř starajícího se o své stá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Hospodin je můj pastýř, nic nepostrádám...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Žalm  2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brý pastýř, který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za ovce pokládá svůj život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(J 10,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stus smiřuje hříšníka s Bohem a vrací mu život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astup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uši zemřel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stý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samotným Kristem, který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stou vedouc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 Bo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 Dobrého pastýř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Kalixtových katakomb prohlubuje symboliku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u s vodou v ruce pastýř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á je odkazem na křest a obecně na svátosti (zvláště eucharistii), slovy Janova evangel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do se napije vody, kterou mu dám já, nebude žíznit navěky, voda se v něm stane pramenem vody tryskající k věčnému životu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 4,1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80988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Věnec vítězství, ústřední výjev figurálního náhrobku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z Vatikánských muzeí,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pol. 4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SCF8307"/>
          <p:cNvPicPr/>
          <p:nvPr/>
        </p:nvPicPr>
        <p:blipFill>
          <a:blip r:embed="rId1"/>
          <a:stretch/>
        </p:blipFill>
        <p:spPr>
          <a:xfrm>
            <a:off x="-19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VĚNEC VÍTĚZ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Novém zákoně je boj za víru porovnáván se sportovními hrami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„Oni to podstupují pro pomíjitelný věnec, my však pro věnec nepomíjitelný.“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1 K 9,2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avřínový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ěnec jako předzvěst budoucího života s Krist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e často objevuje na raně křesťanských sarkofázích zvláště ze 4. století. Velmi často je spojen s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ristovým monogram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chrismon), který je do něho vepsán. Řecká písmena X (chí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P (ró) znamenají Christos (tj. Kristus). Po povolení křesťanské víry (313) se Kristův monogram ve vavřínovém věnci objevuje velmi hojně doplněn o další prvky symbolického charakteru. Na sarkofázích nahrazuj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mrtvýchvstalého Kris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ncem vrchol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říž s holubicem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na břevnech – to jso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uše křesťanů toužících po věčném životě s Kristem vítězícím nad smr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fotografií je PhDr. Radek Martin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92" name="Obrázek 1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8288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měty k práci se symbol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 katak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dejte úkol najít co nejvíce informací o tom, jak žili křesťané ve starověkém Římě a co pro ně znamenaly katakom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ítněte obraz z katakomb: žáci jmenují postavy či symboly, které v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mohou hledat souvislost zobrazeného s některou biblickou událostí nebo se životem křesťanů této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eznámí s názvem obrazu (kliknutím se zobrazí) a s několika informacemi o obraze (na dalším snímku za obraz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vořte o tomto symbolu v souvislosti s darem spásy – to je osvobození od moci zla, ve který první křesťané věřili. Má tato víra něco společného s potřebami a touhami našich současník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032, Catacomba di Domitilla, Epitaf Antonia s kotvou a rybami"/>
          <p:cNvPicPr/>
          <p:nvPr/>
        </p:nvPicPr>
        <p:blipFill>
          <a:blip r:embed="rId1"/>
          <a:stretch/>
        </p:blipFill>
        <p:spPr>
          <a:xfrm>
            <a:off x="-69840" y="-49320"/>
            <a:ext cx="10836360" cy="812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Kotva a ryb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na Antoniově epitafu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z Domitiliných katakomb v Římě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KOTVA A RYB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tva je symbolem naděje, jistoty a spá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á stabilitu lodi na rozbouřeném m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jistí místo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přísta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istota Božího zaslíb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pevné zakotvení v naději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miňovaná v listě Židům (6,18–19) v narážce na věčný život (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jako první z nás vstoupil do nebeské svatyně Ježíš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je důvodem, proč se symbolické zobrazení kotvy objevuje na mnoha křesťanských náhrobcích, a to nejvíce kolem roku 300, kdy opět zesílilo pronásledov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arově je čast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ylizována do kříž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symbolu Kristova utrpení, ačkoliv se jinak v těchto dobách samotný symbol kříže nevyskytuje, protože je stále chápán jako potupný popravčí nástroj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stavuj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ěří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ale také samotn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charisti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zaručený prostředek vedoucí ke spáse (věčnému živo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59" name="Picture 4" descr="027a"/>
          <p:cNvPicPr/>
          <p:nvPr/>
        </p:nvPicPr>
        <p:blipFill>
          <a:blip r:embed="rId1"/>
          <a:stretch/>
        </p:blipFill>
        <p:spPr>
          <a:xfrm>
            <a:off x="17640" y="15840"/>
            <a:ext cx="9108720" cy="6831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562360" y="533412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Holubice 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s olivovou ratolestí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na náhrobku Augúriné,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konec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HOLUBICE S OLIVOVOU RATOLEST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ické zobrazení holubice s olivovou ratolestí je narážka na holubici ohlašující Noemovi konec potop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zvěst Božího míru pro svě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Gn 8,10.1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o zobrazení může být chápáno rovněž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ázornění kř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obecně křesťana zachráněného obmytím vodou z nákazy hříchu, a také jako vyjádření míru, který duši člověka poskytuje tato svát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náhrobcích často chápána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asená křesťanova duš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á po přestálém utrpení v tomto světě došla do blaženého svě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ivová ratolest může být nahrazena snítkou vavřínu nebo palmovou ratolestí odkazující na mučednickou korunu zemřel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42, Catacomba di Priscilla, Capella Greca, Zuzana obviněná starci z Babylonu, nahoře Malomocný"/>
          <p:cNvPicPr/>
          <p:nvPr/>
        </p:nvPicPr>
        <p:blipFill>
          <a:blip r:embed="rId1"/>
          <a:stretch/>
        </p:blipFill>
        <p:spPr>
          <a:xfrm>
            <a:off x="-453960" y="0"/>
            <a:ext cx="9597960" cy="7197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Zuzana osočovaná starci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Řecké kaple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ZUZANA A STA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rvních staletích pozvolna vzniká zárodek nového křesťanského umění a upuštění od židovského zákazu zobrazování Boha. Mladá křesťanská obec, opakovaně ohrožovaná krvavým pronásledováním, byla povzbuzována čtením starozákonních textů i evangelií, zvlášt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ryvky zdůrazňujícími zázračný Boží zása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 prospěch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čítání příběhu o zachráněné Zuzaně nespravedlivě obviněné starci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 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bylo nepochybně reakcí na pomluvy většinové společnosti připisující křesťanům páchání různých zvráceností (např. kanibalismu pramenícího z doslovně chápaných Kristových slov při ustanovení eucharist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43, Catacomba di Priscilla, cubicolo della Velata, Oběť Abrahamova, 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Oběť Abrahámova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chetické a pedagogické centrum</dc:creator>
  <dc:description/>
  <dc:language>en-US</dc:language>
  <cp:lastModifiedBy>Zimmermannová Marie ThLic. Ing.</cp:lastModifiedBy>
  <dcterms:modified xsi:type="dcterms:W3CDTF">2012-07-13T17:37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